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E114-093B-4E01-9B1F-B923F4FBA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0126-A612-4ED7-84D2-D4447D20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70F8-728A-416A-B8B0-7C6E18029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71F7-EC6E-411C-8418-81EBB1652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6F6F-02FF-437F-93F4-66AEA77B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186E-D019-422A-901F-5C888A45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AED0-6BD2-4807-9CFC-7B439777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01BC-1F6C-46EE-905D-BA33AA2A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C63E-4D4C-4EFC-BB61-DA33E355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7FA6-D72D-4662-BEFF-7789762A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CFAE-25F0-4551-A50C-0767EA57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1085-63BD-4B8F-96D8-A7703F9E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3C71-F12C-4AD0-B403-A098FB636AE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142920" y="1143000"/>
            <a:ext cx="876312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 1.2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καθως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γεγραπται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ἐν τῳ Ἠσαϊᾳ τῳ προφητῃ∙ Ἰδου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ἀποστελλω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..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st as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t is writt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Isaiah the prophet, 'Look! I am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ding …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hn 19.30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ὁ Ἰησους εἰπεν∙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Τετελεσται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sus said, ‘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t i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finish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’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John 5.10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ὁ μη πιστευων τῳ θεῳ ψευστην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πεποιηκε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αὐτον, ὁτι οὐ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πεπιστευκε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εἰς την μαρτυριαν ἡν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μεματυρηκε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ὁ θεος περι του υἱου αὐτου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one who does not believe in Go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as ma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him 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ar, becaus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e has not believ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the testimony which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as testifi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oncerning his s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:Grammar </a:t>
            </a:r>
            <a:fld id="{116EC20B-1FF6-4C44-87A1-2F3CCBE1D7F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: THE 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24120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.4 THE PLU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:Grammar </a:t>
            </a:r>
            <a:fld id="{357A0A7F-2B54-43E0-B8B3-11E430C0692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66760" y="1785960"/>
            <a:ext cx="86104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rfec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sent state arising from event in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'I have broken the window' – past event, but it is stil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r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luperfect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st state arising from event in the remot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'I had broken the window' – past event, created a state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ut the state is now past (it was broken for a time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ut now is fixed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24120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.4 THE PLU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:Grammar </a:t>
            </a:r>
            <a:fld id="{C0C9BC92-B144-459E-882E-6906828E2A5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54080" y="1146240"/>
            <a:ext cx="8829720" cy="51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direct statements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'But he said that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e had not destroy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law'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eek uses the original tense of the words of the thought/spee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 δε εἰπεν ὁτι οὐ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καταλελυκε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τον νομο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mporal clau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hen he had co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he spoke to the people'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eek would normally translate this by a Participle, 'having come, he spoke to the people‘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ἐλθω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εἰπεν τῳ λαῳ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ὁτε ἠλθε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ἰπεν τῳ λαῳ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714240" y="131904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rm of the Pluperfec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87360" y="2143080"/>
          <a:ext cx="8358120" cy="3722760"/>
        </p:xfrm>
        <a:graphic>
          <a:graphicData uri="http://schemas.openxmlformats.org/drawingml/2006/table">
            <a:tbl>
              <a:tblPr/>
              <a:tblGrid>
                <a:gridCol w="2214720"/>
                <a:gridCol w="3074760"/>
                <a:gridCol w="3068640"/>
              </a:tblGrid>
              <a:tr h="69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 and 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(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)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ελυκε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(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ελυμ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(sin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(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ελυκε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(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ελυσ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, she, 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(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ελυκε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(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ελυτ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(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ελυκειμε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(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ελυμεθ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(pl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(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ελυκειτ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(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ελυσθ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(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ελυκεισα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(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ελυντ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Box 3"/>
          <p:cNvSpPr/>
          <p:nvPr/>
        </p:nvSpPr>
        <p:spPr>
          <a:xfrm>
            <a:off x="24120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.4 THE PLU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:Grammar </a:t>
            </a:r>
            <a:fld id="{952F4FE0-F9D8-4002-8887-51B8F362BFA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DEA OF THE 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:Grammar </a:t>
            </a:r>
            <a:fld id="{49F73798-7D85-4D57-97FA-C2D7FED89A5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85840" y="1714680"/>
          <a:ext cx="8572320" cy="3840120"/>
        </p:xfrm>
        <a:graphic>
          <a:graphicData uri="http://schemas.openxmlformats.org/drawingml/2006/table">
            <a:tbl>
              <a:tblPr/>
              <a:tblGrid>
                <a:gridCol w="1685880"/>
                <a:gridCol w="1684440"/>
                <a:gridCol w="1768320"/>
                <a:gridCol w="34336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k Ten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lish Equival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ndefin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am untying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 unt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fin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ill unt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as unty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fin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unti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and P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 unti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ORM OF THE 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:Grammar </a:t>
            </a:r>
            <a:fld id="{1DE81DD4-51A7-43B0-8841-2980310F46E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12840" y="1655640"/>
          <a:ext cx="8518320" cy="3978360"/>
        </p:xfrm>
        <a:graphic>
          <a:graphicData uri="http://schemas.openxmlformats.org/drawingml/2006/table">
            <a:tbl>
              <a:tblPr/>
              <a:tblGrid>
                <a:gridCol w="1703160"/>
                <a:gridCol w="1627200"/>
                <a:gridCol w="1781280"/>
                <a:gridCol w="1703520"/>
                <a:gridCol w="1703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ελυκ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ῥερυμαι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ελυ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(sin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ελυκ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ῥερυσαι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ελυσ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, she, 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ελυκε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ῥερυτ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ελυτ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ελυκαμε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ῥερυμεθ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ελυμεθ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(pl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ελυκατ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ῥερυσθε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ελυσθ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ελυκα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ῥερυνται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ελυντ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ελυκω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ῥερυμενος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ελυμε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228600" y="1268280"/>
            <a:ext cx="8686800" cy="54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istinguishing mark of the Perfect, in all forms, i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duplic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erfect Active also has a characteristic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κ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erfect Indicative Active endings are similar to those in the Aor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iddle and the Passive share the same forms in the Perfect (as they also do in the Present and Imperfect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erfect Middle and Passive endings are similar to the Present Middle and Passive endings, but they lack any initial vowel (e.g. -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ται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not -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ται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-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μενο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not -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ομενο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λελυκω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eclines like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πα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ith nominative singulars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λελυκω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λελυκυια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λελυκο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and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eclension stem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λελυκοτ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-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an get Perfects in all of the other moods, where they convey a sense of completion (e.g. Perfect Infinitive Active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λελυκεναι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Passive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λελυσθαι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. However these are very ra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ORM OF THE 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:Grammar </a:t>
            </a:r>
            <a:fld id="{AF719189-82B7-4786-A90F-CAE9E6ACD93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ORM OF THE 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:Grammar </a:t>
            </a:r>
            <a:fld id="{E79A7C32-C2E5-450E-AD07-E4E4451ACAF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171880" y="1571760"/>
            <a:ext cx="4800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.2.1 Reduplicatio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762120" y="2895480"/>
            <a:ext cx="7467480" cy="1810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duplication - Perfect - in all m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ugmentation – Imperfect and Aorist - only in the Indica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ORM OF THE 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:Grammar </a:t>
            </a:r>
            <a:fld id="{21403BC5-5046-4DF2-90CE-14EBAFAFC22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133720" y="1371600"/>
            <a:ext cx="48765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.2.2 Stem Change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90680" y="2286000"/>
            <a:ext cx="8153280" cy="31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esence of consonants next to the stem in the perfect causes complications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ω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verbs are straight forward - th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urns into a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 verbs are complicated - the final letter of the stem shifts within defined groups to whatever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nds b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κ</a:t>
            </a:r>
            <a:r>
              <a:rPr b="0" lang="en-GB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γ</a:t>
            </a:r>
            <a:r>
              <a:rPr b="0" lang="en-GB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χ</a:t>
            </a:r>
            <a:r>
              <a:rPr b="0" lang="en-GB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σσ</a:t>
            </a:r>
            <a:r>
              <a:rPr b="0" lang="en-GB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π</a:t>
            </a:r>
            <a:r>
              <a:rPr b="0" lang="en-GB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β</a:t>
            </a:r>
            <a:r>
              <a:rPr b="0" lang="en-GB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φ</a:t>
            </a:r>
            <a:r>
              <a:rPr b="0" lang="en-GB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 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τ</a:t>
            </a:r>
            <a:r>
              <a:rPr b="0" lang="en-GB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δ,</a:t>
            </a:r>
            <a:r>
              <a:rPr b="0" lang="en-GB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θ</a:t>
            </a:r>
            <a:r>
              <a:rPr b="0" lang="en-GB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ζ</a:t>
            </a:r>
            <a:r>
              <a:rPr b="0" lang="en-GB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241200" y="442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.3 MORE ON THE MEANING OF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:Grammar </a:t>
            </a:r>
            <a:fld id="{5CE1E42E-DC33-499C-AF3B-FFB16C6CF45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776240" y="1281240"/>
            <a:ext cx="5562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.3.1 Participle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60200" y="1851120"/>
            <a:ext cx="87631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s 16.34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ἠγαλλιασατο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...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πεπιστευκως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τῳ θεῳ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rejoiced … becaus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e had become a believ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.e. he had believed and still believed in God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t. 5.10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μακαριοι οἱ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δεδιωγμενο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essed are thos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ho have been persecut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i.e. th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secuted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1214280" y="1967040"/>
            <a:ext cx="6553440" cy="22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1)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ἡ πιστις σου σεσωκεν σε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Mark 5.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2)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οὐκ ἀνεγνωτε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;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Mark 12.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3)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ἐκαλεσεν αὐτου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Mark 1.2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990720" y="4724280"/>
            <a:ext cx="7162560" cy="1169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cus on the meaning of the tens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 their rough English equival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241200" y="442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.3 MORE ON THE MEANING OF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:Grammar </a:t>
            </a:r>
            <a:fld id="{C1D8257C-7637-4148-B006-AC430917918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87360" y="1281240"/>
            <a:ext cx="835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.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ifference between the Perfect and Aorist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3"/>
          <p:cNvSpPr/>
          <p:nvPr/>
        </p:nvSpPr>
        <p:spPr>
          <a:xfrm>
            <a:off x="241200" y="442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.3 MORE ON THE MEANING OF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:Grammar </a:t>
            </a:r>
            <a:fld id="{84B9064C-8998-4F6C-A891-F5117BA1744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16000" y="1866960"/>
          <a:ext cx="8686800" cy="3419280"/>
        </p:xfrm>
        <a:graphic>
          <a:graphicData uri="http://schemas.openxmlformats.org/drawingml/2006/table">
            <a:tbl>
              <a:tblPr/>
              <a:tblGrid>
                <a:gridCol w="2670120"/>
                <a:gridCol w="4105080"/>
                <a:gridCol w="1911600"/>
              </a:tblGrid>
              <a:tr h="12675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lish 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state resulting from past a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has eaten it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k 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 in indefinite p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has eaten many apples over the last year 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k 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lish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 Sim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 in definite p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ate i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5:55:53Z</dcterms:created>
  <dc:creator>Sarah</dc:creator>
  <dc:description/>
  <dc:language>en-US</dc:language>
  <cp:lastModifiedBy>Sarah</cp:lastModifiedBy>
  <dcterms:modified xsi:type="dcterms:W3CDTF">2009-07-11T10:45:41Z</dcterms:modified>
  <cp:revision>29</cp:revision>
  <dc:subject/>
  <dc:title>Slide 1</dc:title>
</cp:coreProperties>
</file>